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5E0-8B98-4002-9D3B-DF592D42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C50-CE58-4B81-ACBD-A834C68A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597-DBE9-4F1F-AEBD-A5A0E43A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C9D-07AE-43D1-96C8-569EA945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CEEF8-0175-4380-94B3-9FEA4D45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63276-F2B5-471F-9236-57CEBEF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9093C-E1E6-41C5-B702-EA994003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DDF86-CC56-4501-A7BB-2B544B9F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6EE14-1C1E-46C2-8FA2-7C69A41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9A79C-7CA6-4A8A-9F6F-6A5885BB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DAB87-D126-4E1B-84DF-502E9E7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29E-745A-44FB-B652-BF3E5186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E4E93-38DC-49E9-9B76-5502557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96FF4-2494-4FC0-B220-80907F4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3B07-B177-4461-814F-9A7FCAFF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26940-0F4B-4768-9564-9970D737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07C8A-E57F-476E-8E23-DCB71FBC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700-300C-43DB-858D-57EE379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9C7-6B1A-4D04-95CE-19A7842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6C0-3572-4BF9-948D-18E9A09D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82B-4639-4F53-9EA6-C3A379D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5DC-D53E-405A-8D6D-84C5A080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24B-175A-4C78-9AF4-5BFCC59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09D-9F09-4183-B994-DAF90ED9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6DBD-DACB-4FB6-B3B6-D00CBCBFC7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C544-4B60-43D4-B489-8A7C0BEC5B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380" b="5151"/>
          <a:stretch/>
        </p:blipFill>
        <p:spPr>
          <a:xfrm>
            <a:off x="0" y="146052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4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Skialpinistické</a:t>
            </a:r>
            <a:br>
              <a:rPr sz="4800"/>
            </a:b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pretek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10797"/>
          <a:stretch/>
        </p:blipFill>
        <p:spPr>
          <a:xfrm>
            <a:off x="7753320" y="0"/>
            <a:ext cx="1390680" cy="148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959400">
            <a:off x="6659640" y="5516640"/>
            <a:ext cx="1584360" cy="105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12000"/>
          </a:blip>
          <a:stretch/>
        </p:blipFill>
        <p:spPr>
          <a:xfrm rot="20829600">
            <a:off x="468360" y="4941720"/>
            <a:ext cx="1800000" cy="141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68360" y="2276640"/>
            <a:ext cx="1477800" cy="1255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>
            <a:lum bright="12000"/>
          </a:blip>
          <a:stretch/>
        </p:blipFill>
        <p:spPr>
          <a:xfrm rot="538200">
            <a:off x="5795640" y="2349360"/>
            <a:ext cx="226836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II UIAA </a:t>
            </a:r>
            <a:r>
              <a:rPr b="0" lang="sk-SK" sz="3200" spc="-1" strike="noStrike">
                <a:solidFill>
                  <a:srgbClr val="e3e3ff"/>
                </a:solidFill>
                <a:latin typeface="Arial"/>
              </a:rPr>
              <a:t>Majstrovstvá sveta v skialpinizme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3357360"/>
            <a:ext cx="72104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2006 –CUNE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ffff00"/>
                </a:solidFill>
                <a:latin typeface="Arial"/>
              </a:rPr>
              <a:t>TALIANSK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e3e3ff"/>
                </a:solidFill>
                <a:latin typeface="Arial"/>
              </a:rPr>
              <a:t>Medzinárodný olympijský výbor</a:t>
            </a:r>
            <a:r>
              <a:rPr b="0" lang="ca-ES" sz="4000" spc="-1" strike="noStrike">
                <a:solidFill>
                  <a:srgbClr val="e3e3ff"/>
                </a:solidFill>
                <a:latin typeface="Arial"/>
              </a:rPr>
              <a:t>: </a:t>
            </a:r>
            <a:r>
              <a:rPr b="0" lang="sk-SK" sz="3600" spc="-1" strike="noStrike">
                <a:solidFill>
                  <a:srgbClr val="e3e3ff"/>
                </a:solidFill>
                <a:latin typeface="Arial"/>
              </a:rPr>
              <a:t>Prístupové kritériá pre šport a jeho športové disciplín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ISMC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na nich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acuje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d vedením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Roger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Pay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História pretekov </a:t>
            </a:r>
            <a:br>
              <a:rPr sz="4800"/>
            </a:b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v skialpinizm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4000" y="4076280"/>
            <a:ext cx="8820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yžiarska 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vé vojenské preteky v Nemec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ázov vojenská hliadka bol používan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e vysokohorské lyžiarske tú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za účelom hraničnej kontroly v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á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541440" y="-19080"/>
            <a:ext cx="10298160" cy="6943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"/>
              </a:rPr>
              <a:t>Olympijská história skialpinizmu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00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1924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ola zaradená do prvých zimných olympijských hier 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hamonix,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anc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úz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Zvíťazili Švajčiari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VAUCHER, D, JULEN Ant.,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EN Alphons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a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UFDENBLATTEN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olf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080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188640"/>
            <a:ext cx="932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Vojenská hliadka bola tiež zaradená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do zimných olympijských hier v roku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28 (Saint Moritz),1936 (Garmisch-Partenkirchen) 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1948 (Saint Moritz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e3e3ff"/>
                </a:solidFill>
                <a:latin typeface="Arial"/>
              </a:rPr>
              <a:t>Skialpinistické klub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554328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9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kialpinistické preteky v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ý skialpinistický pr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re Excursionista of Catal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 (CEC)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 UIAA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Majstrovstvá Sveta v Skialpinizme 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al d’Aran (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Španielsk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 spolupráci 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EC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EDME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3 Trofeo Mezza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 Patrouille des Glac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5880" y="2571840"/>
            <a:ext cx="3048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V 80-ych a 90-ych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rokoch  bolo v Európe veľa skialpinistických pretekov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sk-SK" sz="4400" spc="-1" strike="noStrike">
                <a:solidFill>
                  <a:srgbClr val="e3e3ff"/>
                </a:solidFill>
                <a:latin typeface="Arial"/>
              </a:rPr>
              <a:t> ale nie na medzinárodnej úrovni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24000" y="306864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ôležitým míľnikom bola inštitú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ISA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SAC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organizova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urópsky pohár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 Majstrovstvá Európy Juniorov v rok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ISAC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dosiahol, že skialpinistické preteky boli pričlenené k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UIA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Olympia:  UIAA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ceptovalo pretekový skialpinizmus a vytvori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SMC: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Medzinárodná organizácia pre pretekový skialpinizmus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sk-SK" sz="4800" spc="-1" strike="noStrike">
                <a:solidFill>
                  <a:srgbClr val="e3e3ff"/>
                </a:solidFill>
                <a:latin typeface="Arial"/>
              </a:rPr>
              <a:t>zahŕňa 27 štátov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3330720"/>
            <a:ext cx="7490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orra, Argentina, Austria, Belgium, Bulgaria, Canada, China, Czech Republic, Chile, Denmark, France, Germany, Greece, Iran, Italy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apa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orea, Liechtenstein, Morocco, Poland, Romania, Russia, Slovakia, Slovenia, Spain, Switzerland, United States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Registrovaných zväzov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889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3:03:01Z</dcterms:created>
  <dc:creator>jordi</dc:creator>
  <dc:description/>
  <dc:language>en-US</dc:language>
  <cp:lastModifiedBy>LEITNER</cp:lastModifiedBy>
  <dcterms:modified xsi:type="dcterms:W3CDTF">2005-06-28T19:51:15Z</dcterms:modified>
  <cp:revision>25</cp:revision>
  <dc:subject/>
  <dc:title>Ski mountaineering competitions</dc:title>
</cp:coreProperties>
</file>